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030-83DD-4376-84DA-908A8BC5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3EF-041C-41D6-90FA-DF6DCBE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FAF-4D5D-46C4-91C5-38182712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E42-5E21-4BEC-9EC1-0C92FEDB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3F0-CBE6-4395-9353-F2FFC778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A04-599C-44FC-8EF1-9F0CB47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1AA-7029-4BC5-B020-7E199CA9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F65-1407-4759-9FC6-DCC5C180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23C-DF55-499A-88A4-1049FF1A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F80-6D1C-45D8-B503-CCF3F019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455-9336-4716-BF39-49A0AE4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6D1-F791-4E51-A733-23214664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75520" y="0"/>
            <a:ext cx="1968480" cy="922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77080" y="0"/>
            <a:ext cx="2266920" cy="1052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DA5B-A67B-43A2-AA74-8BE6AAA9AF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.xml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25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PLCE we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Y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9280" y="1484280"/>
            <a:ext cx="3402000" cy="460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48360" y="153180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32000" y="1771560"/>
            <a:ext cx="115236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235908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dder lock buck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-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360" y="2243160"/>
            <a:ext cx="1871640" cy="357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3079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79640" y="332100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835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h b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79640" y="407664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51944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26920" y="4761000"/>
            <a:ext cx="162108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564160"/>
            <a:ext cx="33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lt lo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879640" y="580536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95640" y="501336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49928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87640" y="535320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35280" y="53164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8920" y="21686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7640" y="19890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87640" y="476100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736720" y="476100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01600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3528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84360" y="1628640"/>
            <a:ext cx="1429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03640" y="166536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22320" cy="306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11640" y="1449360"/>
            <a:ext cx="4622760" cy="302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4797360"/>
            <a:ext cx="153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Release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0000" y="4869000"/>
            <a:ext cx="15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l tag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55640" y="3357360"/>
            <a:ext cx="576360" cy="13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642920" y="3860640"/>
            <a:ext cx="397080" cy="9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79640" y="2709720"/>
            <a:ext cx="2879640" cy="28800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95640" y="1773360"/>
            <a:ext cx="719280" cy="863280"/>
            <a:chOff x="3095640" y="1773360"/>
            <a:chExt cx="719280" cy="863280"/>
          </a:xfrm>
        </p:grpSpPr>
        <p:sp>
          <p:nvSpPr>
            <p:cNvPr id="154" name=""/>
            <p:cNvSpPr/>
            <p:nvPr/>
          </p:nvSpPr>
          <p:spPr>
            <a:xfrm>
              <a:off x="3095640" y="1773360"/>
              <a:ext cx="719280" cy="863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0080" y="1989000"/>
              <a:ext cx="58788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0080" y="1844640"/>
              <a:ext cx="587880" cy="7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2494080"/>
            <a:ext cx="431640" cy="1429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8560" y="285264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38560" y="278136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8560" y="414972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38560" y="407844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38560" y="530136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38560" y="28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385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22920" y="1773360"/>
            <a:ext cx="718920" cy="3600360"/>
            <a:chOff x="4822920" y="1773360"/>
            <a:chExt cx="718920" cy="3600360"/>
          </a:xfrm>
        </p:grpSpPr>
        <p:grpSp>
          <p:nvGrpSpPr>
            <p:cNvPr id="168" name=""/>
            <p:cNvGrpSpPr/>
            <p:nvPr/>
          </p:nvGrpSpPr>
          <p:grpSpPr>
            <a:xfrm>
              <a:off x="4822920" y="1773360"/>
              <a:ext cx="718920" cy="863280"/>
              <a:chOff x="4822920" y="1773360"/>
              <a:chExt cx="718920" cy="863280"/>
            </a:xfrm>
          </p:grpSpPr>
          <p:sp>
            <p:nvSpPr>
              <p:cNvPr id="169" name=""/>
              <p:cNvSpPr/>
              <p:nvPr/>
            </p:nvSpPr>
            <p:spPr>
              <a:xfrm>
                <a:off x="4822920" y="1773360"/>
                <a:ext cx="71892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87360" y="198900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87360" y="184464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5480" y="2494080"/>
              <a:ext cx="43128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65480" y="285264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965480" y="278136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65480" y="414972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965480" y="4077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965480" y="5301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5480" y="285264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65480" y="414972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814920" y="2852640"/>
            <a:ext cx="288720" cy="1513080"/>
            <a:chOff x="3814920" y="2852640"/>
            <a:chExt cx="288720" cy="1513080"/>
          </a:xfrm>
        </p:grpSpPr>
        <p:sp>
          <p:nvSpPr>
            <p:cNvPr id="183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14920" y="285264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14920" y="432792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0560" y="1375920"/>
            <a:ext cx="288720" cy="1513080"/>
            <a:chOff x="4570560" y="1375920"/>
            <a:chExt cx="288720" cy="1513080"/>
          </a:xfrm>
        </p:grpSpPr>
        <p:sp>
          <p:nvSpPr>
            <p:cNvPr id="188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70560" y="281412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0560" y="137628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851280" y="4113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06920" y="1412280"/>
            <a:ext cx="216000" cy="22068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889360"/>
            <a:ext cx="144720" cy="1081080"/>
          </a:xfrm>
          <a:custGeom>
            <a:avLst/>
            <a:gdLst>
              <a:gd name="textAreaLeft" fmla="*/ 6840 w 144720"/>
              <a:gd name="textAreaRight" fmla="*/ 137880 w 144720"/>
              <a:gd name="textAreaTop" fmla="*/ 6840 h 1081080"/>
              <a:gd name="textAreaBottom" fmla="*/ 1074240 h 1081080"/>
            </a:gdLst>
            <a:ahLst/>
            <a:rect l="textAreaLeft" t="textAreaTop" r="textAreaRight" b="textAreaBottom"/>
            <a:pathLst>
              <a:path w="21600" h="161008">
                <a:moveTo>
                  <a:pt x="3600" y="0"/>
                </a:moveTo>
                <a:arcTo wR="3600" hR="3600" stAng="16200000" swAng="-5400000"/>
                <a:lnTo>
                  <a:pt x="0" y="157408"/>
                </a:lnTo>
                <a:arcTo wR="3600" hR="3600" stAng="10800000" swAng="-5400000"/>
                <a:lnTo>
                  <a:pt x="18000" y="161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42424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2852640"/>
            <a:ext cx="288720" cy="15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08360" y="4113360"/>
            <a:ext cx="21456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285264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84464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ted ‘A’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640" y="360828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3146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t locator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162864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fix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9440" y="69152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276640"/>
            <a:ext cx="8636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58920" y="4005360"/>
            <a:ext cx="1152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824360" y="2097000"/>
            <a:ext cx="1224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32000" y="2097000"/>
            <a:ext cx="1979640" cy="97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16360" y="3573360"/>
            <a:ext cx="1511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1280" y="483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032000" y="4257360"/>
            <a:ext cx="219708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787640" y="4292640"/>
            <a:ext cx="1439640" cy="900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Utility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ottle p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11640" y="177336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of pouch setup as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1800" y="4567320"/>
            <a:ext cx="2876760" cy="191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35280" y="4653000"/>
            <a:ext cx="2880000" cy="190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13971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382428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ater bottle Pouc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90 &amp; 95 Pa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rt guide will show you how to put the webb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itting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reparing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uggested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ouch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xing Pouche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xing Pouche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itting the yok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itting the yok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Testing &amp;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belt around your waist with two ‘D’ rings at the back held equidistant from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n QR clip at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to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move belt locator pins on LHS to a new position to ensure QR clip is cen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41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t Yoke (Par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yoke down on floor, with strapping facing up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yoke belt straps (strap 1) through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1 through the ladder lock buckles A &amp; B (follow red dotted ar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88200" y="5408640"/>
            <a:ext cx="14472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32920" y="5264280"/>
            <a:ext cx="107640" cy="10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96200" y="5121360"/>
            <a:ext cx="216000" cy="215640"/>
          </a:xfrm>
          <a:prstGeom prst="rect">
            <a:avLst/>
          </a:prstGeom>
          <a:gradFill rotWithShape="0">
            <a:gsLst>
              <a:gs pos="0">
                <a:srgbClr val="6f6f6f"/>
              </a:gs>
              <a:gs pos="50000">
                <a:srgbClr val="000000"/>
              </a:gs>
              <a:gs pos="100000">
                <a:srgbClr val="6f6f6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80200" y="3321000"/>
            <a:ext cx="73080" cy="1152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51840" y="3716280"/>
            <a:ext cx="71280" cy="12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34640" y="3900960"/>
            <a:ext cx="300240" cy="723240"/>
            <a:chOff x="8234640" y="3900960"/>
            <a:chExt cx="300240" cy="723240"/>
          </a:xfrm>
        </p:grpSpPr>
        <p:sp>
          <p:nvSpPr>
            <p:cNvPr id="242" name=""/>
            <p:cNvSpPr/>
            <p:nvPr/>
          </p:nvSpPr>
          <p:spPr>
            <a:xfrm rot="20659800">
              <a:off x="8320680" y="3898800"/>
              <a:ext cx="72720" cy="64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659800">
              <a:off x="8373600" y="4462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177040" y="4125960"/>
            <a:ext cx="608040" cy="1155600"/>
          </a:xfrm>
          <a:custGeom>
            <a:avLst/>
            <a:gdLst/>
            <a:ahLst/>
            <a:rect l="l" t="t" r="r" b="b"/>
            <a:pathLst>
              <a:path w="383" h="728">
                <a:moveTo>
                  <a:pt x="7" y="536"/>
                </a:moveTo>
                <a:cubicBezTo>
                  <a:pt x="3" y="577"/>
                  <a:pt x="0" y="619"/>
                  <a:pt x="7" y="649"/>
                </a:cubicBezTo>
                <a:cubicBezTo>
                  <a:pt x="14" y="679"/>
                  <a:pt x="22" y="706"/>
                  <a:pt x="52" y="717"/>
                </a:cubicBezTo>
                <a:cubicBezTo>
                  <a:pt x="82" y="728"/>
                  <a:pt x="154" y="728"/>
                  <a:pt x="188" y="717"/>
                </a:cubicBezTo>
                <a:cubicBezTo>
                  <a:pt x="222" y="706"/>
                  <a:pt x="245" y="678"/>
                  <a:pt x="256" y="649"/>
                </a:cubicBezTo>
                <a:cubicBezTo>
                  <a:pt x="267" y="620"/>
                  <a:pt x="267" y="577"/>
                  <a:pt x="253" y="544"/>
                </a:cubicBezTo>
                <a:cubicBezTo>
                  <a:pt x="239" y="511"/>
                  <a:pt x="202" y="481"/>
                  <a:pt x="169" y="448"/>
                </a:cubicBezTo>
                <a:cubicBezTo>
                  <a:pt x="136" y="415"/>
                  <a:pt x="74" y="393"/>
                  <a:pt x="55" y="346"/>
                </a:cubicBezTo>
                <a:cubicBezTo>
                  <a:pt x="36" y="299"/>
                  <a:pt x="51" y="208"/>
                  <a:pt x="55" y="166"/>
                </a:cubicBezTo>
                <a:cubicBezTo>
                  <a:pt x="59" y="124"/>
                  <a:pt x="58" y="121"/>
                  <a:pt x="79" y="94"/>
                </a:cubicBezTo>
                <a:cubicBezTo>
                  <a:pt x="100" y="67"/>
                  <a:pt x="157" y="8"/>
                  <a:pt x="181" y="4"/>
                </a:cubicBezTo>
                <a:cubicBezTo>
                  <a:pt x="205" y="0"/>
                  <a:pt x="230" y="47"/>
                  <a:pt x="223" y="70"/>
                </a:cubicBezTo>
                <a:cubicBezTo>
                  <a:pt x="216" y="93"/>
                  <a:pt x="161" y="114"/>
                  <a:pt x="139" y="142"/>
                </a:cubicBezTo>
                <a:cubicBezTo>
                  <a:pt x="117" y="170"/>
                  <a:pt x="99" y="208"/>
                  <a:pt x="91" y="238"/>
                </a:cubicBezTo>
                <a:cubicBezTo>
                  <a:pt x="83" y="268"/>
                  <a:pt x="71" y="297"/>
                  <a:pt x="91" y="322"/>
                </a:cubicBezTo>
                <a:cubicBezTo>
                  <a:pt x="111" y="347"/>
                  <a:pt x="162" y="345"/>
                  <a:pt x="211" y="388"/>
                </a:cubicBezTo>
                <a:cubicBezTo>
                  <a:pt x="260" y="431"/>
                  <a:pt x="347" y="542"/>
                  <a:pt x="383" y="582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9583800">
            <a:off x="8199000" y="3712680"/>
            <a:ext cx="7164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0920" y="5408640"/>
            <a:ext cx="273528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5120" y="5192640"/>
            <a:ext cx="46980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5335560"/>
            <a:ext cx="32364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219640" y="6335640"/>
            <a:ext cx="32400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8920" y="5408640"/>
            <a:ext cx="46692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523280" y="5408640"/>
            <a:ext cx="39528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00760" y="5192640"/>
            <a:ext cx="47016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37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3840" y="5335560"/>
            <a:ext cx="32400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75640" y="6335640"/>
            <a:ext cx="32364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3480" y="2347920"/>
            <a:ext cx="2268720" cy="1800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8200" y="3679920"/>
            <a:ext cx="32364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700000">
            <a:off x="4767840" y="3626640"/>
            <a:ext cx="324000" cy="12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2700000">
            <a:off x="4298760" y="4482720"/>
            <a:ext cx="330120" cy="43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3840" y="3753000"/>
            <a:ext cx="32400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rot="18900000">
            <a:off x="7167960" y="3758400"/>
            <a:ext cx="323640" cy="817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rot="18900000">
            <a:off x="7499520" y="4349520"/>
            <a:ext cx="330480" cy="289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3753000"/>
            <a:ext cx="395280" cy="46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43400" y="4070520"/>
            <a:ext cx="27468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1720" y="3781440"/>
            <a:ext cx="335160" cy="572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1720" y="409896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1720" y="398448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38920" y="3787920"/>
            <a:ext cx="395280" cy="575640"/>
            <a:chOff x="6838920" y="3787920"/>
            <a:chExt cx="395280" cy="575640"/>
          </a:xfrm>
        </p:grpSpPr>
        <p:sp>
          <p:nvSpPr>
            <p:cNvPr id="274" name=""/>
            <p:cNvSpPr/>
            <p:nvPr/>
          </p:nvSpPr>
          <p:spPr>
            <a:xfrm>
              <a:off x="6838920" y="378792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00480" y="410472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9880" y="381672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9880" y="41338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9880" y="40186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218200" y="3463920"/>
            <a:ext cx="323640" cy="3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3840" y="3824280"/>
            <a:ext cx="335160" cy="57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3840" y="3463920"/>
            <a:ext cx="324000" cy="36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73480" y="1663560"/>
            <a:ext cx="2268720" cy="72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3640" y="1952640"/>
            <a:ext cx="133020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8200" y="1952640"/>
            <a:ext cx="197964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9480" y="487044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6920" y="494028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37080" y="4019040"/>
            <a:ext cx="638280" cy="649440"/>
            <a:chOff x="7237080" y="4019040"/>
            <a:chExt cx="638280" cy="649440"/>
          </a:xfrm>
        </p:grpSpPr>
        <p:sp>
          <p:nvSpPr>
            <p:cNvPr id="288" name=""/>
            <p:cNvSpPr/>
            <p:nvPr/>
          </p:nvSpPr>
          <p:spPr>
            <a:xfrm rot="19025400">
              <a:off x="7340760" y="4092120"/>
              <a:ext cx="395280" cy="46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9025400">
              <a:off x="7549200" y="435060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025400">
              <a:off x="7254000" y="41670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9025400">
              <a:off x="7470360" y="43995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9025400">
              <a:off x="7391880" y="43149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23760" y="4004280"/>
            <a:ext cx="643680" cy="644040"/>
            <a:chOff x="4523760" y="4004280"/>
            <a:chExt cx="643680" cy="644040"/>
          </a:xfrm>
        </p:grpSpPr>
        <p:sp>
          <p:nvSpPr>
            <p:cNvPr id="294" name=""/>
            <p:cNvSpPr/>
            <p:nvPr/>
          </p:nvSpPr>
          <p:spPr>
            <a:xfrm rot="2711400">
              <a:off x="4667040" y="407628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711400">
              <a:off x="4574880" y="433008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711400">
              <a:off x="4820400" y="41562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711400">
              <a:off x="4595040" y="43797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711400">
              <a:off x="4676760" y="429840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5256360" y="373212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256360" y="456732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948360" y="46386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392720" y="45100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740720" y="4422600"/>
            <a:ext cx="144360" cy="2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88000" y="417024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912000" y="376884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416720" y="4149720"/>
            <a:ext cx="1796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751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epar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o stud fastenings, lift webbing fixing loops &amp; belt locator pins so they are pointing upwards and do not infer when threading the belt through the webbing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72000" y="1447920"/>
            <a:ext cx="2879640" cy="4212720"/>
            <a:chOff x="5472000" y="1447920"/>
            <a:chExt cx="2879640" cy="4212720"/>
          </a:xfrm>
        </p:grpSpPr>
        <p:sp>
          <p:nvSpPr>
            <p:cNvPr id="313" name=""/>
            <p:cNvSpPr/>
            <p:nvPr/>
          </p:nvSpPr>
          <p:spPr>
            <a:xfrm>
              <a:off x="5472000" y="2781000"/>
              <a:ext cx="2879640" cy="2879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407280" y="1447920"/>
              <a:ext cx="288720" cy="1512720"/>
              <a:chOff x="6407280" y="1447920"/>
              <a:chExt cx="288720" cy="15127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40728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728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688000" y="1844640"/>
              <a:ext cx="719280" cy="863280"/>
              <a:chOff x="5688000" y="1844640"/>
              <a:chExt cx="719280" cy="863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88000" y="1844640"/>
                <a:ext cx="71928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52440" y="206028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52440" y="191592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30920" y="2565360"/>
              <a:ext cx="43164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30920" y="292392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830920" y="285192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30920" y="4221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830920" y="4149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830920" y="537336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0920" y="2923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30920" y="422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415280" y="1844640"/>
              <a:ext cx="718920" cy="3599640"/>
              <a:chOff x="7415280" y="1844640"/>
              <a:chExt cx="718920" cy="3599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415280" y="1844640"/>
                <a:ext cx="718920" cy="862920"/>
                <a:chOff x="7415280" y="1844640"/>
                <a:chExt cx="718920" cy="862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415280" y="1844640"/>
                  <a:ext cx="718920" cy="86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646464"/>
                    </a:gs>
                    <a:gs pos="100000">
                      <a:srgbClr val="0000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79720" y="2059920"/>
                  <a:ext cx="587880" cy="576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479720" y="1915560"/>
                  <a:ext cx="5878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57840" y="2565000"/>
                <a:ext cx="431280" cy="14220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57840" y="292356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7557840" y="285156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57840" y="422064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557840" y="4149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557840" y="5373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7840" y="292356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57840" y="422064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162920" y="1447920"/>
              <a:ext cx="288720" cy="1512720"/>
              <a:chOff x="7162920" y="1447920"/>
              <a:chExt cx="288720" cy="151272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6292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6292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flipV="1">
              <a:off x="719928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8560" y="1879560"/>
              <a:ext cx="144360" cy="1080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1355">
                  <a:moveTo>
                    <a:pt x="3600" y="0"/>
                  </a:moveTo>
                  <a:arcTo wR="3600" hR="3600" stAng="16200000" swAng="-5400000"/>
                  <a:lnTo>
                    <a:pt x="0" y="157755"/>
                  </a:lnTo>
                  <a:arcTo wR="3600" hR="3600" stAng="10800000" swAng="-5400000"/>
                  <a:lnTo>
                    <a:pt x="18000" y="161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072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44364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0728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4508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35640" y="1879560"/>
              <a:ext cx="144720" cy="108072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0955">
                  <a:moveTo>
                    <a:pt x="3600" y="0"/>
                  </a:moveTo>
                  <a:arcTo wR="3600" hR="3600" stAng="16200000" swAng="-5400000"/>
                  <a:lnTo>
                    <a:pt x="0" y="157355"/>
                  </a:lnTo>
                  <a:arcTo wR="3600" hR="3600" stAng="10800000" swAng="-5400000"/>
                  <a:lnTo>
                    <a:pt x="18000" y="160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ggested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pouch positioning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55640" y="2637000"/>
            <a:ext cx="5473800" cy="2121840"/>
            <a:chOff x="1655640" y="2637000"/>
            <a:chExt cx="5473800" cy="2121840"/>
          </a:xfrm>
        </p:grpSpPr>
        <p:sp>
          <p:nvSpPr>
            <p:cNvPr id="367" name=""/>
            <p:cNvSpPr/>
            <p:nvPr/>
          </p:nvSpPr>
          <p:spPr>
            <a:xfrm>
              <a:off x="2016000" y="4145040"/>
              <a:ext cx="4608360" cy="4345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17880" y="4064040"/>
              <a:ext cx="1760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3048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44880" y="4118040"/>
              <a:ext cx="12204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944880" y="4493520"/>
              <a:ext cx="12204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38520" y="4064040"/>
              <a:ext cx="1778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5292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6960" y="4118040"/>
              <a:ext cx="12060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66960" y="4493520"/>
              <a:ext cx="12240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44880" y="353520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66960" y="3535200"/>
              <a:ext cx="12060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76360" y="3967200"/>
              <a:ext cx="57636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3344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2872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6836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9440" y="3967200"/>
              <a:ext cx="576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5452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4980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8944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836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872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76360" y="3967200"/>
              <a:ext cx="576360" cy="433080"/>
            </a:xfrm>
            <a:custGeom>
              <a:avLst/>
              <a:gdLst>
                <a:gd name="textAreaLeft" fmla="*/ 126720 w 576360"/>
                <a:gd name="textAreaRight" fmla="*/ 449640 w 57636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9440" y="3967200"/>
              <a:ext cx="576000" cy="433080"/>
            </a:xfrm>
            <a:custGeom>
              <a:avLst/>
              <a:gdLst>
                <a:gd name="textAreaLeft" fmla="*/ 126720 w 576000"/>
                <a:gd name="textAreaRight" fmla="*/ 449280 w 57600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8944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980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1272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7308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560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94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6544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78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266920" y="3679560"/>
              <a:ext cx="180720" cy="252360"/>
              <a:chOff x="2266920" y="3679560"/>
              <a:chExt cx="180720" cy="252360"/>
            </a:xfrm>
          </p:grpSpPr>
          <p:sp>
            <p:nvSpPr>
              <p:cNvPr id="403" name=""/>
              <p:cNvSpPr/>
              <p:nvPr/>
            </p:nvSpPr>
            <p:spPr>
              <a:xfrm>
                <a:off x="226692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831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831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771640" y="3679560"/>
              <a:ext cx="181080" cy="252360"/>
              <a:chOff x="2771640" y="3679560"/>
              <a:chExt cx="181080" cy="2523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164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8784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8784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688000" y="3679560"/>
              <a:ext cx="180720" cy="252360"/>
              <a:chOff x="5688000" y="3679560"/>
              <a:chExt cx="180720" cy="252360"/>
            </a:xfrm>
          </p:grpSpPr>
          <p:sp>
            <p:nvSpPr>
              <p:cNvPr id="411" name=""/>
              <p:cNvSpPr/>
              <p:nvPr/>
            </p:nvSpPr>
            <p:spPr>
              <a:xfrm>
                <a:off x="568800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0420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0420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192720" y="3679560"/>
              <a:ext cx="181080" cy="252360"/>
              <a:chOff x="6192720" y="3679560"/>
              <a:chExt cx="181080" cy="252360"/>
            </a:xfrm>
          </p:grpSpPr>
          <p:sp>
            <p:nvSpPr>
              <p:cNvPr id="415" name=""/>
              <p:cNvSpPr/>
              <p:nvPr/>
            </p:nvSpPr>
            <p:spPr>
              <a:xfrm>
                <a:off x="619272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089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089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889080" y="2909880"/>
              <a:ext cx="863640" cy="7203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930480" y="3471840"/>
              <a:ext cx="150840" cy="229320"/>
              <a:chOff x="3930480" y="3471840"/>
              <a:chExt cx="150840" cy="229320"/>
            </a:xfrm>
          </p:grpSpPr>
          <p:sp>
            <p:nvSpPr>
              <p:cNvPr id="420" name=""/>
              <p:cNvSpPr/>
              <p:nvPr/>
            </p:nvSpPr>
            <p:spPr>
              <a:xfrm>
                <a:off x="3930480" y="34718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54240" y="3598560"/>
                <a:ext cx="104760" cy="10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1640" y="3482640"/>
                <a:ext cx="127080" cy="23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41640" y="3609360"/>
                <a:ext cx="12708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41640" y="3563640"/>
                <a:ext cx="127080" cy="2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4560840" y="3486240"/>
              <a:ext cx="150840" cy="229680"/>
              <a:chOff x="4560840" y="3486240"/>
              <a:chExt cx="150840" cy="229680"/>
            </a:xfrm>
          </p:grpSpPr>
          <p:sp>
            <p:nvSpPr>
              <p:cNvPr id="426" name=""/>
              <p:cNvSpPr/>
              <p:nvPr/>
            </p:nvSpPr>
            <p:spPr>
              <a:xfrm>
                <a:off x="4560840" y="34862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84240" y="3612600"/>
                <a:ext cx="10476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72360" y="349776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72360" y="362412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72360" y="357804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3944880" y="3355920"/>
              <a:ext cx="12204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4880" y="3500280"/>
              <a:ext cx="127080" cy="21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4880" y="3355920"/>
              <a:ext cx="122400" cy="144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89080" y="2637000"/>
              <a:ext cx="863640" cy="28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8720" y="2752560"/>
              <a:ext cx="506160" cy="718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4880" y="2752560"/>
              <a:ext cx="752400" cy="60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4182000">
              <a:off x="3692520" y="317556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17418000">
              <a:off x="4823640" y="3175560"/>
              <a:ext cx="122040" cy="55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4182000">
              <a:off x="3493080" y="3246840"/>
              <a:ext cx="121680" cy="5558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7418000">
              <a:off x="5060880" y="3269160"/>
              <a:ext cx="121680" cy="5554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97200" y="3311280"/>
              <a:ext cx="260640" cy="209160"/>
              <a:chOff x="3697200" y="3311280"/>
              <a:chExt cx="260640" cy="209160"/>
            </a:xfrm>
          </p:grpSpPr>
          <p:sp>
            <p:nvSpPr>
              <p:cNvPr id="442" name=""/>
              <p:cNvSpPr/>
              <p:nvPr/>
            </p:nvSpPr>
            <p:spPr>
              <a:xfrm rot="4054800">
                <a:off x="3768840" y="3323880"/>
                <a:ext cx="15048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4054800">
                <a:off x="3712320" y="3397680"/>
                <a:ext cx="10440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4054800">
                <a:off x="3844080" y="337680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4054800">
                <a:off x="372708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4054800">
                <a:off x="3769200" y="340776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682160" y="3311280"/>
              <a:ext cx="261000" cy="209160"/>
              <a:chOff x="4682160" y="3311280"/>
              <a:chExt cx="261000" cy="209160"/>
            </a:xfrm>
          </p:grpSpPr>
          <p:sp>
            <p:nvSpPr>
              <p:cNvPr id="448" name=""/>
              <p:cNvSpPr/>
              <p:nvPr/>
            </p:nvSpPr>
            <p:spPr>
              <a:xfrm flipH="1" rot="17545200">
                <a:off x="4719960" y="3323520"/>
                <a:ext cx="15012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rot="17545200">
                <a:off x="4822920" y="3397320"/>
                <a:ext cx="10440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rot="17545200">
                <a:off x="4668480" y="337644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rot="17545200">
                <a:off x="478656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17545200">
                <a:off x="4743360" y="340740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655640" y="411156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28720" y="4076640"/>
              <a:ext cx="323640" cy="7272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15840 h 72720"/>
                <a:gd name="textAreaBottom" fmla="*/ 568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728720" y="4579920"/>
              <a:ext cx="323640" cy="14400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31680 h 144000"/>
                <a:gd name="textAreaBottom" fmla="*/ 11232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407664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1080" y="4184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1080" y="4400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214000" y="501660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37840" y="5013360"/>
            <a:ext cx="7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52360" y="5013360"/>
            <a:ext cx="7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52720" y="501336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0720" y="278136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59236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64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11164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12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95928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2728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04036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924360" y="346392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1636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75128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2560" y="1305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osition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all pouches into position, ensuring that belt passes through BOTH belt loops on the reverse of th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050920" y="1952640"/>
            <a:ext cx="6481800" cy="4724280"/>
            <a:chOff x="2050920" y="1952640"/>
            <a:chExt cx="6481800" cy="4724280"/>
          </a:xfrm>
        </p:grpSpPr>
        <p:sp>
          <p:nvSpPr>
            <p:cNvPr id="482" name=""/>
            <p:cNvSpPr/>
            <p:nvPr/>
          </p:nvSpPr>
          <p:spPr>
            <a:xfrm>
              <a:off x="3780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7524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2240" y="463212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924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2924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012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7120" y="463212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7412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700000">
              <a:off x="6091560" y="342828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700000">
              <a:off x="5739120" y="407052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rot="18900000">
              <a:off x="7895880" y="352728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rot="18900000">
              <a:off x="8145720" y="397080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02240" y="352260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48320" y="376236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4560" y="354492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24560" y="378288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24560" y="36972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7648560" y="3549600"/>
              <a:ext cx="297000" cy="433080"/>
              <a:chOff x="7648560" y="3549600"/>
              <a:chExt cx="297000" cy="433080"/>
            </a:xfrm>
          </p:grpSpPr>
          <p:sp>
            <p:nvSpPr>
              <p:cNvPr id="500" name=""/>
              <p:cNvSpPr/>
              <p:nvPr/>
            </p:nvSpPr>
            <p:spPr>
              <a:xfrm>
                <a:off x="7648560" y="354960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94640" y="378792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71600" y="35712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71600" y="380988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71600" y="37231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429240" y="330516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74120" y="357660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74120" y="330516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73680" y="217008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1600" y="246672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1600" y="195264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217008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29240" y="381960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74120" y="379404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1640" y="462888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037040" y="3679560"/>
              <a:ext cx="223920" cy="1076400"/>
              <a:chOff x="4037040" y="3679560"/>
              <a:chExt cx="223920" cy="107640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037040" y="4702680"/>
                <a:ext cx="22392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37040" y="3679560"/>
                <a:ext cx="22392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4621320" y="3679560"/>
              <a:ext cx="225360" cy="1076400"/>
              <a:chOff x="4621320" y="3679560"/>
              <a:chExt cx="225360" cy="107640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4621320" y="470268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21320" y="367956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flipV="1">
              <a:off x="4649760" y="370440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91040" y="3986280"/>
              <a:ext cx="112680" cy="76968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7141">
                  <a:moveTo>
                    <a:pt x="3600" y="0"/>
                  </a:moveTo>
                  <a:arcTo wR="3600" hR="3600" stAng="16200000" swAng="-5400000"/>
                  <a:lnTo>
                    <a:pt x="0" y="143541"/>
                  </a:lnTo>
                  <a:arcTo wR="3600" hR="3600" stAng="10800000" swAng="-5400000"/>
                  <a:lnTo>
                    <a:pt x="18000" y="147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21320" y="473076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51200" y="562608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064040" y="37044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37040" y="473076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65480" y="562608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78200" y="3986280"/>
              <a:ext cx="113040" cy="76968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6674">
                  <a:moveTo>
                    <a:pt x="3600" y="0"/>
                  </a:moveTo>
                  <a:arcTo wR="3600" hR="3600" stAng="16200000" swAng="-5400000"/>
                  <a:lnTo>
                    <a:pt x="0" y="143074"/>
                  </a:lnTo>
                  <a:arcTo wR="3600" hR="3600" stAng="10800000" swAng="-5400000"/>
                  <a:lnTo>
                    <a:pt x="18000" y="1466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8360" y="476712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478320" y="3962160"/>
              <a:ext cx="558720" cy="614520"/>
              <a:chOff x="3478320" y="3962160"/>
              <a:chExt cx="558720" cy="614520"/>
            </a:xfrm>
          </p:grpSpPr>
          <p:sp>
            <p:nvSpPr>
              <p:cNvPr id="535" name=""/>
              <p:cNvSpPr/>
              <p:nvPr/>
            </p:nvSpPr>
            <p:spPr>
              <a:xfrm>
                <a:off x="3478320" y="39621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28360" y="41155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28360" y="40125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842000" y="3968640"/>
              <a:ext cx="558720" cy="614520"/>
              <a:chOff x="4842000" y="3968640"/>
              <a:chExt cx="558720" cy="61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842000" y="396864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2040" y="412200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2040" y="401904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 flipH="1">
              <a:off x="8236080" y="475776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50920" y="476064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8436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95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08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829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68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56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2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64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88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3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37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996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8996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59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8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0872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32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56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6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591000" y="4475160"/>
              <a:ext cx="334800" cy="2047680"/>
              <a:chOff x="3591000" y="4475160"/>
              <a:chExt cx="334800" cy="2047680"/>
            </a:xfrm>
          </p:grpSpPr>
          <p:sp>
            <p:nvSpPr>
              <p:cNvPr id="565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91000" y="447516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91000" y="47307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3591000" y="46792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91000" y="5653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3591000" y="5601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591000" y="64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91000" y="473076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91000" y="56530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954680" y="4481280"/>
              <a:ext cx="334800" cy="2048040"/>
              <a:chOff x="4954680" y="4481280"/>
              <a:chExt cx="334800" cy="2048040"/>
            </a:xfrm>
          </p:grpSpPr>
          <p:sp>
            <p:nvSpPr>
              <p:cNvPr id="576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54680" y="448128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54680" y="47368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954680" y="4685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4680" y="56592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954680" y="5607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4954680" y="6477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54680" y="47368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54680" y="56592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 txBox="1"/>
          <p:nvPr/>
        </p:nvSpPr>
        <p:spPr>
          <a:xfrm>
            <a:off x="648000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74072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56360" y="37893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64360" y="3824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90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PL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istory of P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C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omplete Webbing set &amp; componen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etting up we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urther Webb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belt locator pins into b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50920" y="1665360"/>
            <a:ext cx="6481800" cy="4724280"/>
            <a:chOff x="2050920" y="1665360"/>
            <a:chExt cx="6481800" cy="4724280"/>
          </a:xfrm>
        </p:grpSpPr>
        <p:sp>
          <p:nvSpPr>
            <p:cNvPr id="596" name=""/>
            <p:cNvSpPr/>
            <p:nvPr/>
          </p:nvSpPr>
          <p:spPr>
            <a:xfrm>
              <a:off x="3780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524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2240" y="434484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924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2924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47120" y="434484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7412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700000">
              <a:off x="6091560" y="314100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0000">
              <a:off x="5739120" y="378324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18900000">
              <a:off x="7895880" y="324000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rot="18900000">
              <a:off x="8145720" y="368352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2240" y="323532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48320" y="347508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24560" y="325764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24560" y="34956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24560" y="34099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7648560" y="3262320"/>
              <a:ext cx="297000" cy="433080"/>
              <a:chOff x="7648560" y="3262320"/>
              <a:chExt cx="297000" cy="433080"/>
            </a:xfrm>
          </p:grpSpPr>
          <p:sp>
            <p:nvSpPr>
              <p:cNvPr id="614" name=""/>
              <p:cNvSpPr/>
              <p:nvPr/>
            </p:nvSpPr>
            <p:spPr>
              <a:xfrm>
                <a:off x="7648560" y="326232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94640" y="350064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71600" y="32839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1600" y="35226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1600" y="3435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429240" y="301788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4120" y="328932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74120" y="301788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73680" y="188280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1600" y="217944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21600" y="166536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29240" y="188280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9240" y="353232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74120" y="350676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11640" y="434160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621320" y="3392280"/>
              <a:ext cx="225360" cy="1076400"/>
              <a:chOff x="4621320" y="3392280"/>
              <a:chExt cx="225360" cy="107640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462132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2132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V="1">
              <a:off x="464976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2132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5120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8360" y="447984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478320" y="3674880"/>
              <a:ext cx="558720" cy="614520"/>
              <a:chOff x="3478320" y="3674880"/>
              <a:chExt cx="558720" cy="614520"/>
            </a:xfrm>
          </p:grpSpPr>
          <p:sp>
            <p:nvSpPr>
              <p:cNvPr id="639" name=""/>
              <p:cNvSpPr/>
              <p:nvPr/>
            </p:nvSpPr>
            <p:spPr>
              <a:xfrm>
                <a:off x="3478320" y="36748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28360" y="38282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528360" y="37252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842000" y="3681360"/>
              <a:ext cx="558720" cy="614520"/>
              <a:chOff x="4842000" y="3681360"/>
              <a:chExt cx="558720" cy="614520"/>
            </a:xfrm>
          </p:grpSpPr>
          <p:sp>
            <p:nvSpPr>
              <p:cNvPr id="643" name=""/>
              <p:cNvSpPr/>
              <p:nvPr/>
            </p:nvSpPr>
            <p:spPr>
              <a:xfrm>
                <a:off x="4842000" y="36813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92040" y="38347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92040" y="37317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 flipH="1">
              <a:off x="8236080" y="447048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50920" y="447336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436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95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08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829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6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32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64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88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13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7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8996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8996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59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8508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0872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2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56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6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591000" y="4187880"/>
              <a:ext cx="334800" cy="2047680"/>
              <a:chOff x="3591000" y="4187880"/>
              <a:chExt cx="334800" cy="2047680"/>
            </a:xfrm>
          </p:grpSpPr>
          <p:sp>
            <p:nvSpPr>
              <p:cNvPr id="667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91000" y="418788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91000" y="4443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591000" y="4392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91000" y="53658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591000" y="53143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591000" y="6184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91000" y="44434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91000" y="53658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4954680" y="4194000"/>
              <a:ext cx="334800" cy="2048040"/>
              <a:chOff x="4954680" y="4194000"/>
              <a:chExt cx="334800" cy="2048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54680" y="419400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4680" y="4449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4954680" y="43981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54680" y="5371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4954680" y="53204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4954680" y="61905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54680" y="44496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54680" y="53719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467820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508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4067280" y="3392280"/>
              <a:ext cx="225360" cy="1076400"/>
              <a:chOff x="4067280" y="3392280"/>
              <a:chExt cx="225360" cy="1076400"/>
            </a:xfrm>
          </p:grpSpPr>
          <p:sp>
            <p:nvSpPr>
              <p:cNvPr id="691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406728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6728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V="1">
              <a:off x="409572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6728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9716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416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9104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 txBox="1"/>
          <p:nvPr/>
        </p:nvSpPr>
        <p:spPr>
          <a:xfrm>
            <a:off x="648000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74072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15636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8064360" y="3535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webbing loops over locator pins and fasten down using stu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process on each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050920" y="1916280"/>
            <a:ext cx="6481800" cy="4724280"/>
            <a:chOff x="2050920" y="1916280"/>
            <a:chExt cx="6481800" cy="4724280"/>
          </a:xfrm>
        </p:grpSpPr>
        <p:sp>
          <p:nvSpPr>
            <p:cNvPr id="710" name=""/>
            <p:cNvSpPr/>
            <p:nvPr/>
          </p:nvSpPr>
          <p:spPr>
            <a:xfrm>
              <a:off x="3780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7524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02240" y="459576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2924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2924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012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47120" y="459576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412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700000">
              <a:off x="6091560" y="339192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700000">
              <a:off x="5739120" y="403416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8900000">
              <a:off x="7895880" y="349092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rot="18900000">
              <a:off x="8145720" y="393444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2240" y="348624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48320" y="372600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4560" y="350856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24560" y="37465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24560" y="366084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7648560" y="3513240"/>
              <a:ext cx="297000" cy="433080"/>
              <a:chOff x="7648560" y="3513240"/>
              <a:chExt cx="297000" cy="433080"/>
            </a:xfrm>
          </p:grpSpPr>
          <p:sp>
            <p:nvSpPr>
              <p:cNvPr id="728" name=""/>
              <p:cNvSpPr/>
              <p:nvPr/>
            </p:nvSpPr>
            <p:spPr>
              <a:xfrm>
                <a:off x="7648560" y="351324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94640" y="375156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1600" y="3534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71600" y="37735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71600" y="368676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6429240" y="326880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74120" y="354024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74120" y="326880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73680" y="213372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21600" y="243036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21600" y="191628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29240" y="213372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29240" y="378324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74120" y="375768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11640" y="459252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37040" y="469440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5480" y="558972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8360" y="473076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478320" y="3925800"/>
              <a:ext cx="558720" cy="614520"/>
              <a:chOff x="3478320" y="3925800"/>
              <a:chExt cx="558720" cy="614520"/>
            </a:xfrm>
          </p:grpSpPr>
          <p:sp>
            <p:nvSpPr>
              <p:cNvPr id="747" name=""/>
              <p:cNvSpPr/>
              <p:nvPr/>
            </p:nvSpPr>
            <p:spPr>
              <a:xfrm>
                <a:off x="3478320" y="392580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528360" y="407916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528360" y="397620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842000" y="3932280"/>
              <a:ext cx="558720" cy="614520"/>
              <a:chOff x="4842000" y="3932280"/>
              <a:chExt cx="558720" cy="614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842000" y="39322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892040" y="40856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892040" y="39826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 flipH="1">
              <a:off x="8236080" y="472140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50920" y="472428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8436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95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08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829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8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356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2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64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88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13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37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8996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8996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59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8508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872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32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56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16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3591000" y="4438800"/>
              <a:ext cx="334800" cy="2047680"/>
              <a:chOff x="3591000" y="4438800"/>
              <a:chExt cx="334800" cy="2047680"/>
            </a:xfrm>
          </p:grpSpPr>
          <p:sp>
            <p:nvSpPr>
              <p:cNvPr id="776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91000" y="443880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91000" y="4694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591000" y="4642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91000" y="5616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591000" y="55652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3591000" y="6435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91000" y="46944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91000" y="56167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954680" y="4444920"/>
              <a:ext cx="334800" cy="2048040"/>
              <a:chOff x="4954680" y="4444920"/>
              <a:chExt cx="334800" cy="2048040"/>
            </a:xfrm>
          </p:grpSpPr>
          <p:sp>
            <p:nvSpPr>
              <p:cNvPr id="787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54680" y="444492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47005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4954680" y="46490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54680" y="5622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4954680" y="55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4954680" y="6441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54680" y="47005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954680" y="562284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4037040" y="4756320"/>
              <a:ext cx="223920" cy="1047600"/>
              <a:chOff x="4037040" y="4756320"/>
              <a:chExt cx="223920" cy="1047600"/>
            </a:xfrm>
          </p:grpSpPr>
          <p:sp>
            <p:nvSpPr>
              <p:cNvPr id="798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037040" y="475632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037040" y="577800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 flipV="1">
              <a:off x="4067280" y="55872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635360" y="4687920"/>
              <a:ext cx="223920" cy="107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64160" y="558324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67400" y="4789440"/>
              <a:ext cx="17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4635360" y="4749840"/>
              <a:ext cx="223920" cy="1047600"/>
              <a:chOff x="4635360" y="4749840"/>
              <a:chExt cx="223920" cy="1047600"/>
            </a:xfrm>
          </p:grpSpPr>
          <p:sp>
            <p:nvSpPr>
              <p:cNvPr id="807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35360" y="474984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4635360" y="577152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 flipV="1">
              <a:off x="4665600" y="5581800"/>
              <a:ext cx="168480" cy="15696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 txBox="1"/>
          <p:nvPr/>
        </p:nvSpPr>
        <p:spPr>
          <a:xfrm>
            <a:off x="648000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74072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156360" y="3716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064360" y="3751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6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2 through the ‘A’ clip closest to the Yo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19280" y="540540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421160" y="532440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33760" y="5337000"/>
            <a:ext cx="14472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448160" y="537840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48160" y="575388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041800" y="532440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56200" y="5337000"/>
            <a:ext cx="14436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70600" y="537840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070600" y="575388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48160" y="479592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070600" y="479592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780000" y="522756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3672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3200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77164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92720" y="522756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15780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5308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19272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7164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3200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80000" y="522756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92720" y="522756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9272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55308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91636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3888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97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6872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581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770200" y="4940280"/>
            <a:ext cx="181080" cy="252360"/>
            <a:chOff x="2770200" y="4940280"/>
            <a:chExt cx="181080" cy="252360"/>
          </a:xfrm>
        </p:grpSpPr>
        <p:sp>
          <p:nvSpPr>
            <p:cNvPr id="857" name=""/>
            <p:cNvSpPr/>
            <p:nvPr/>
          </p:nvSpPr>
          <p:spPr>
            <a:xfrm>
              <a:off x="27702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864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864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274920" y="4940280"/>
            <a:ext cx="181080" cy="252360"/>
            <a:chOff x="3274920" y="4940280"/>
            <a:chExt cx="181080" cy="252360"/>
          </a:xfrm>
        </p:grpSpPr>
        <p:sp>
          <p:nvSpPr>
            <p:cNvPr id="861" name=""/>
            <p:cNvSpPr/>
            <p:nvPr/>
          </p:nvSpPr>
          <p:spPr>
            <a:xfrm>
              <a:off x="327492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9112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112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191280" y="4940280"/>
            <a:ext cx="181080" cy="252360"/>
            <a:chOff x="6191280" y="4940280"/>
            <a:chExt cx="181080" cy="252360"/>
          </a:xfrm>
        </p:grpSpPr>
        <p:sp>
          <p:nvSpPr>
            <p:cNvPr id="865" name=""/>
            <p:cNvSpPr/>
            <p:nvPr/>
          </p:nvSpPr>
          <p:spPr>
            <a:xfrm>
              <a:off x="619128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748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0748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696000" y="4940280"/>
            <a:ext cx="181080" cy="252360"/>
            <a:chOff x="6696000" y="4940280"/>
            <a:chExt cx="181080" cy="252360"/>
          </a:xfrm>
        </p:grpSpPr>
        <p:sp>
          <p:nvSpPr>
            <p:cNvPr id="869" name=""/>
            <p:cNvSpPr/>
            <p:nvPr/>
          </p:nvSpPr>
          <p:spPr>
            <a:xfrm>
              <a:off x="66960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122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122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4392720" y="4170240"/>
            <a:ext cx="863640" cy="720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433760" y="4732200"/>
            <a:ext cx="150840" cy="230040"/>
            <a:chOff x="4433760" y="4732200"/>
            <a:chExt cx="150840" cy="230040"/>
          </a:xfrm>
        </p:grpSpPr>
        <p:sp>
          <p:nvSpPr>
            <p:cNvPr id="874" name=""/>
            <p:cNvSpPr/>
            <p:nvPr/>
          </p:nvSpPr>
          <p:spPr>
            <a:xfrm>
              <a:off x="4433760" y="47322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57520" y="48592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44920" y="474336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44920" y="487008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44920" y="482436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064120" y="4746600"/>
            <a:ext cx="150840" cy="230040"/>
            <a:chOff x="5064120" y="4746600"/>
            <a:chExt cx="150840" cy="230040"/>
          </a:xfrm>
        </p:grpSpPr>
        <p:sp>
          <p:nvSpPr>
            <p:cNvPr id="880" name=""/>
            <p:cNvSpPr/>
            <p:nvPr/>
          </p:nvSpPr>
          <p:spPr>
            <a:xfrm>
              <a:off x="5064120" y="4746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87520" y="4873320"/>
              <a:ext cx="1047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75640" y="4758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75640" y="48848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75640" y="483876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448160" y="461628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8520" y="4761000"/>
            <a:ext cx="126720" cy="21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078520" y="461628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92720" y="3897360"/>
            <a:ext cx="863640" cy="28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01328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48160" y="4013280"/>
            <a:ext cx="752400" cy="60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4182000">
            <a:off x="4196520" y="443592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rot="17418000">
            <a:off x="5327640" y="443628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4200480" y="4572000"/>
            <a:ext cx="261000" cy="209520"/>
            <a:chOff x="4200480" y="4572000"/>
            <a:chExt cx="261000" cy="209520"/>
          </a:xfrm>
        </p:grpSpPr>
        <p:sp>
          <p:nvSpPr>
            <p:cNvPr id="894" name=""/>
            <p:cNvSpPr/>
            <p:nvPr/>
          </p:nvSpPr>
          <p:spPr>
            <a:xfrm rot="4054800">
              <a:off x="4272120" y="4584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4054800">
              <a:off x="4215240" y="46591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4054800">
              <a:off x="4347360" y="46378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4054800">
              <a:off x="4230000" y="46861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4054800">
              <a:off x="427248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185080" y="4572000"/>
            <a:ext cx="261000" cy="209880"/>
            <a:chOff x="5185080" y="4572000"/>
            <a:chExt cx="261000" cy="209880"/>
          </a:xfrm>
        </p:grpSpPr>
        <p:sp>
          <p:nvSpPr>
            <p:cNvPr id="900" name=""/>
            <p:cNvSpPr/>
            <p:nvPr/>
          </p:nvSpPr>
          <p:spPr>
            <a:xfrm flipH="1" rot="17545200">
              <a:off x="5222880" y="45846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rot="17545200">
              <a:off x="5325480" y="4658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17545200">
              <a:off x="5171760" y="4637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rot="17545200">
              <a:off x="5288760" y="4685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rot="17545200">
              <a:off x="524664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158920" y="537228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232000" y="5337000"/>
            <a:ext cx="324000" cy="7308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3080"/>
              <a:gd name="textAreaBottom" fmla="*/ 572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232000" y="584028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56360" y="5337000"/>
            <a:ext cx="46836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164360" y="5445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164360" y="5661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464000" y="5049720"/>
            <a:ext cx="71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75280" y="5049720"/>
            <a:ext cx="712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284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292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46400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07672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7" name=""/>
          <p:cNvSpPr/>
          <p:nvPr/>
        </p:nvSpPr>
        <p:spPr>
          <a:xfrm>
            <a:off x="3311640" y="4616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rot="648000">
            <a:off x="3343320" y="4381560"/>
            <a:ext cx="108000" cy="26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rot="5083800">
            <a:off x="3458160" y="4274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rot="20205000">
            <a:off x="3634920" y="4365720"/>
            <a:ext cx="128520" cy="412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16962600">
            <a:off x="3834360" y="4632840"/>
            <a:ext cx="12240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570280" y="4351680"/>
            <a:ext cx="765000" cy="569520"/>
            <a:chOff x="5570280" y="4351680"/>
            <a:chExt cx="765000" cy="569520"/>
          </a:xfrm>
        </p:grpSpPr>
        <p:sp>
          <p:nvSpPr>
            <p:cNvPr id="923" name=""/>
            <p:cNvSpPr/>
            <p:nvPr/>
          </p:nvSpPr>
          <p:spPr>
            <a:xfrm flipH="1">
              <a:off x="6210000" y="4616280"/>
              <a:ext cx="12492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20952000">
              <a:off x="6192360" y="4381560"/>
              <a:ext cx="110880" cy="269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16516200">
              <a:off x="6060600" y="4270320"/>
              <a:ext cx="12204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1395000">
              <a:off x="5871240" y="4365720"/>
              <a:ext cx="131760" cy="412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4637400">
              <a:off x="5674680" y="4628880"/>
              <a:ext cx="12240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 txBox="1"/>
          <p:nvPr/>
        </p:nvSpPr>
        <p:spPr>
          <a:xfrm>
            <a:off x="331164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19272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30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3 through the outermost ‘A’ cl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C on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971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975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979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983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988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994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007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013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033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041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5796000" y="220356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0" y="2492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732720" y="2205000"/>
            <a:ext cx="107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920000" y="24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Testing &amp;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on web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front QR bu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y up, and get them to tighten all ladder lock buckles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1095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1099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1103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1107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1112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1118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131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137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157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158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165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166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Webbing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Pad / Hippo P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-rd Minimi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nching Tool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uch (34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-Role Radio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tol Hol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80 Bayonet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-Cutter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le Grenade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p u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4680000" y="2133720"/>
            <a:ext cx="2052720" cy="191916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>
            <a:off x="7236000" y="3645000"/>
            <a:ext cx="1355400" cy="197460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944720" cy="173340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4"/>
          <a:stretch/>
        </p:blipFill>
        <p:spPr>
          <a:xfrm>
            <a:off x="6823080" y="1484280"/>
            <a:ext cx="1781280" cy="2232000"/>
          </a:xfrm>
          <a:prstGeom prst="rect">
            <a:avLst/>
          </a:prstGeom>
          <a:ln w="0">
            <a:noFill/>
          </a:ln>
        </p:spPr>
      </p:pic>
      <p:sp>
        <p:nvSpPr>
          <p:cNvPr id="1183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current tactical webbing system of the British Ar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sts of a Belt, Yoke (shoulder harness) and a number of Pou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with PLCE Webbing is a series of other similar load carrying equipment and rucks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77080" y="4221000"/>
            <a:ext cx="1789200" cy="220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british_army_type_plce_infantry_bergen_olive"/>
          <p:cNvPicPr/>
          <p:nvPr/>
        </p:nvPicPr>
        <p:blipFill>
          <a:blip r:embed="rId2"/>
          <a:stretch/>
        </p:blipFill>
        <p:spPr>
          <a:xfrm>
            <a:off x="4716360" y="4292640"/>
            <a:ext cx="1897200" cy="235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ergens_and_webbing_side_pocket_set"/>
          <p:cNvPicPr/>
          <p:nvPr/>
        </p:nvPicPr>
        <p:blipFill>
          <a:blip r:embed="rId3"/>
          <a:stretch/>
        </p:blipFill>
        <p:spPr>
          <a:xfrm>
            <a:off x="2987640" y="4724280"/>
            <a:ext cx="1434960" cy="148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ergens_and_webbing_soldier_95_plce_webbing_dpm"/>
          <p:cNvPicPr/>
          <p:nvPr/>
        </p:nvPicPr>
        <p:blipFill>
          <a:blip r:embed="rId4"/>
          <a:stretch/>
        </p:blipFill>
        <p:spPr>
          <a:xfrm>
            <a:off x="324000" y="4578480"/>
            <a:ext cx="251928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E replaced 58 Pattern webbing, which was made of olive canvas: this system was outdated by the 1980’s. It was very heavy, uncomfortable and shrank when wet- these problems were well noted by soldiers during the 1982 Falklands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 introduced Nylon M-67 (and l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-purp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weigh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ivi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)) type webbing during the Vietnam War to overcome the issues associated with canvas in damp clim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ir lead, Britain developed 72-Patt webbing, which was based on 58-Patt in nylon. This had very limited use, and was not on gener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resumed with the introduction of the SA80 Rifle in the mid-late 80’s. Experimental (85-Patt) PLCE appeared at this time. It was very similar to the first Issue PLCE, but used snaps for closure on all pou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LCE (90-Patt) appeared around 1988, in OG. The original type used ’58 pattern C-Hooks for belt attachment, and angled D-Rings for Yoke attachment on the Ammo pouches (so there were separate left and right pouch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duction Utility Pouches had additional belt attachments for high mounting, like the ammo pouches of '37 or '44 Pattern we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OG webbing has ambidextrous Yoke fittings and standard PLCE belt attachments. The Disruptive Pattern Material (DPM) version (95-Patt/Soldier 95) has been made since about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concept for PLCE was modular. Known as CEFO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er) the minimum rig was two Double Ammo Pouches, known as CEFO-AO (Assault Or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, Canteens, Respirators, Entrenching Tools and Bayonets could be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E 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1720"/>
            <a:ext cx="8578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mary versions of PLCE Webbing exist: OG (90-Patt) and DPM (95-P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minor modifications to buckles, clips and fastenings also exist within these two versions, dependant on the year of manufa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OG only: two types of ammo pouch - left and right. Ammo pouches are internally divided, providing enough space for two magazines per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 DPM and OG: Two types of ammo pouch - left and right. No internal pouch dividers in ammo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 DPM and OG: As 2, but pouch fasteners are replaced with quick release cl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 DPM only. Double pouch – pouches are now side specific, can be used on left or right side. No internal dividers. Semi-directional yoke fastening 'D' rings on pouches have been replaced by universal slotted 'A' rings, which also now appear (in pairs) on Utility Pouches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: DPM only: Single ammo pouch. Pull tag type pocket fastener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: DPM only: Single ammo pouch. Quick release clips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bergens_and_webbing_soldier_95_plce_webbing_dpm"/>
          <p:cNvPicPr/>
          <p:nvPr/>
        </p:nvPicPr>
        <p:blipFill>
          <a:blip r:embed="rId1"/>
          <a:stretch/>
        </p:blipFill>
        <p:spPr>
          <a:xfrm>
            <a:off x="250920" y="1557360"/>
            <a:ext cx="4105080" cy="27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720" y="1484280"/>
            <a:ext cx="37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 x Y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 x B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 x 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 x Water bottle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 x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11280" y="2637000"/>
            <a:ext cx="2340000" cy="3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11280" y="3537000"/>
            <a:ext cx="539640" cy="25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834920" y="4184640"/>
            <a:ext cx="295092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971280" y="4184640"/>
            <a:ext cx="3708360" cy="18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916360" y="4076280"/>
            <a:ext cx="1761840" cy="289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743280" y="3897000"/>
            <a:ext cx="900000" cy="2087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6321"/>
          <a:stretch/>
        </p:blipFill>
        <p:spPr>
          <a:xfrm>
            <a:off x="611280" y="2168640"/>
            <a:ext cx="450540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08720" y="38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LHS (f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951280" y="4041720"/>
            <a:ext cx="2557440" cy="23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3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leas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592360" y="4257720"/>
            <a:ext cx="2951280" cy="349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(adju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908000" y="4436640"/>
            <a:ext cx="3600720" cy="1104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755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or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59280" y="2997360"/>
            <a:ext cx="162072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155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067280" y="1798560"/>
            <a:ext cx="1441440" cy="801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64000" y="1773360"/>
            <a:ext cx="2808000" cy="57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7640" y="3033720"/>
            <a:ext cx="1116000" cy="14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11280" y="2312640"/>
            <a:ext cx="0" cy="826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5080" y="19954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ay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2:31:10Z</dcterms:created>
  <dc:creator>Alex Pye</dc:creator>
  <dc:description/>
  <dc:language>en-US</dc:language>
  <cp:lastModifiedBy>Antonino Zema</cp:lastModifiedBy>
  <dcterms:modified xsi:type="dcterms:W3CDTF">2008-11-21T11:24:18Z</dcterms:modified>
  <cp:revision>3</cp:revision>
  <dc:subject/>
  <dc:title>Setting up PLCE webbing</dc:title>
</cp:coreProperties>
</file>